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99ED-66C4-4506-B4F7-D5E2537D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804-4138-44A4-AAD3-B3310732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D43-4F21-4BB1-BEA7-715CEB13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97C-6375-4129-870A-2ABF0138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3008-E123-49B9-AAF0-FE0333FD4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25F-CFE8-4ABE-A49E-A2BBAAD2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B5A8-EDB4-434A-8ED8-BB618A41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DBB-0598-4CB9-8BAA-0A01A61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A84-F77D-42A8-B543-D781E54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9A3-6C49-4969-8B98-9A26B249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F4E-6C0E-4613-BB96-F54A3D24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821-1E02-4792-94F1-1AE49EEA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0D10-9D05-42D2-A15D-90F4CD85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8A1-DDDE-4E0B-B969-35E70EC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CA4-5E60-48D7-8BA4-CDCFABEC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8CD-BAA7-4E19-893A-EBB8646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6061-21CE-463F-A097-2574FEC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6434-8D8C-438E-BF30-21E5AE2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25D-BC85-474F-BDA7-A0AC362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C9B5-6216-4A5C-A162-9BB56D0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9E54-4D50-4FF0-BCF6-D1515D2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6250-A986-4D4E-BB26-4FA0372D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62E-5E07-49E6-9380-C8E940D9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73F4-DFE3-4216-9E66-013402C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180E-3EFA-4D3B-84C0-3FFED686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3746-B04E-4DE1-BC73-07F5D19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521F-06F8-487C-826B-349F231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37DA-5176-4428-866A-8A1E30D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A88F-F32F-474B-85BA-BD5CD998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598-817A-4E0F-9EC8-3A340A1F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A333-B094-4263-82DC-CE78B14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16CB-522F-4E7E-876F-CBE388C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3A36-2DE7-451B-BD3E-81700C6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F19F-CE11-4E60-8B2F-F1152AA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829F-4248-46C2-9D09-4748D0C9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9D20-138C-4E4C-8D73-1B126154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DEF4-C382-46CD-834E-D9A38E9B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8F86-40A1-4A51-A0FF-6C063D5D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3EB2-068C-4E0C-BF95-A9BCE45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9EC1-E096-4A4F-81F1-EA76E66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900-B904-4BCA-A865-2F51039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3797-C510-45E1-850A-5D230B8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418D-63D4-405D-A9D9-F717BB10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F2AE-DAF7-4E44-B98C-7AB2FAE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CAC7-C71C-48A6-87A3-3539048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509B-B5FA-45A1-B026-66CC711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172D-0BAB-43F6-AE37-884B0E6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6404-9E23-4455-B010-C0F56BE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163A-4E82-411B-8A59-17806728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BCE7-FF64-458F-983D-B26F1D7D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1CFD-3303-43A9-8176-CCAEC56C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A6B-97E2-47C3-8E61-90168686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C0B7-6431-44E1-B750-E2C21AE6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A821-99A7-45EE-9855-3BFB5D7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BF92-B313-4FA2-8DB5-900C993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FB6A-0BF8-499B-BC16-D63C20B8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CCE7-8A2E-4975-B8F8-4CC16AB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09B1A-D9BC-4C0A-B480-2EEFBD5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E5F4-430B-4ED5-8D5C-D2852FD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2D3F-C448-41F7-AE1D-7FDA258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A4AD-2DBE-400B-94AB-5D2D6C9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A557-2DBE-4A7B-8D35-679358C8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349-09BC-455A-9FF2-3B1B0C1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E952-A88F-489B-8708-F128A930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E9A5-A5CB-41C8-9E67-77A17051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B04A-4A7C-4F47-AD73-7A8706C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A7A0-34D1-4BB5-912E-12478EB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93E7-7E22-4230-89AA-158DA9F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E36B-8C8B-4501-96FF-4B1DC8D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4A58-A4C1-4E91-9487-A6A4066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05B3-1E59-4DBA-B035-7F820B7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2552-A9BC-4ECE-A26B-A163A02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9D6E-AE5E-46F0-A54D-727B36AF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0F2-5436-4BAF-8ADA-B58D494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AFA0-C730-4562-94FB-2BA57A9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D990-9D05-4B6D-95AB-4E6C7378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8329-D6CF-471C-BA75-E2D58DA9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7EED-BEFC-4897-AE67-D1E7177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FB0C-F917-4036-876D-1CE680BC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B549-63BC-4A13-8B82-8826F327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9D504-EA3A-41DF-9156-52E6C19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1A48-1C23-4532-9016-F4952B6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1BBC-C527-4B3F-9B6E-B02325F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6800-679C-41A2-9F43-D392228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8B3-F3DC-4E27-93FD-FB6632F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079C-2282-4227-A635-C90DFD5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F9D1-EBFF-4A9A-BF59-DDA332C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6165-4859-4DCA-976E-C8B6FB5B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73E4-ED2D-4DDA-BCE2-A666D967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A697-625B-49AD-9BC4-ADE4ABD3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6A84-47E9-4C80-91B9-76AFC99E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4029-A320-46A1-AFA6-8B6B1E7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2701-43E6-465B-91E5-20CEDF7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6C0E-67C5-454F-A861-8D18A06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0738-4784-4524-9BC4-DEA06DF8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938-2BA2-4A90-9A43-2DC3CBB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E61A5-8DFE-4EA3-B8C1-AE20755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59D0-C3E4-4C1A-A621-7CB6CE6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7964C-1187-48BE-BE1B-B3ADEA0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3D5D-8691-4790-BDD4-F028178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E9BA2-EDCE-4EFF-A4DB-8FFEC52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365B-9249-4010-8D50-FD7AC49B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93EAC-2F12-4F47-A35E-C5D6FEAD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F543-A4A0-4274-AE13-5E782D052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9A2F-A9E4-4B10-B768-3F4973F7986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13C-D40D-4BFF-958B-36EAA96CC4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621-47EE-42C3-98C5-B8018C65F8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920-1BF5-4DDB-A3DC-72185C4FD6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E26-E024-41D4-9487-82EF491791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00B-7C63-4522-B6FD-207317EE27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826-99D4-4D23-8797-27308B6770C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1371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6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5 Word Pa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-, Dia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ora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gona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on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gle or corner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mete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meter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surement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log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l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ss; throug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5" descr="diameter.jpg"/>
          <p:cNvPicPr/>
          <p:nvPr/>
        </p:nvPicPr>
        <p:blipFill>
          <a:blip r:embed="rId2"/>
          <a:stretch/>
        </p:blipFill>
        <p:spPr>
          <a:xfrm>
            <a:off x="5105520" y="2895480"/>
            <a:ext cx="213336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iorama.jpg"/>
          <p:cNvPicPr/>
          <p:nvPr/>
        </p:nvPicPr>
        <p:blipFill>
          <a:blip r:embed="rId3"/>
          <a:stretch/>
        </p:blipFill>
        <p:spPr>
          <a:xfrm>
            <a:off x="2971800" y="44197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vendiagram.jpg"/>
          <p:cNvPicPr/>
          <p:nvPr/>
        </p:nvPicPr>
        <p:blipFill>
          <a:blip r:embed="rId4"/>
          <a:stretch/>
        </p:blipFill>
        <p:spPr>
          <a:xfrm>
            <a:off x="6858000" y="228600"/>
            <a:ext cx="1809720" cy="1219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diagonall.jpg"/>
          <p:cNvPicPr/>
          <p:nvPr/>
        </p:nvPicPr>
        <p:blipFill>
          <a:blip r:embed="rId5"/>
          <a:stretch/>
        </p:blipFill>
        <p:spPr>
          <a:xfrm>
            <a:off x="7467480" y="4648320"/>
            <a:ext cx="140040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nedictio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en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prefix meaning “well; good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adi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a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ledictio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bad; evi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dic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root meaning true; truth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i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say; to speak; to tell; word or wo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4" descr="dicator.jpg"/>
          <p:cNvPicPr/>
          <p:nvPr/>
        </p:nvPicPr>
        <p:blipFill>
          <a:blip r:embed="rId2"/>
          <a:stretch/>
        </p:blipFill>
        <p:spPr>
          <a:xfrm>
            <a:off x="4952880" y="5410080"/>
            <a:ext cx="1600200" cy="1266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dicatorr.jpg"/>
          <p:cNvPicPr/>
          <p:nvPr/>
        </p:nvPicPr>
        <p:blipFill>
          <a:blip r:embed="rId3"/>
          <a:stretch/>
        </p:blipFill>
        <p:spPr>
          <a:xfrm>
            <a:off x="2666880" y="5562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verdict.jpg"/>
          <p:cNvPicPr/>
          <p:nvPr/>
        </p:nvPicPr>
        <p:blipFill>
          <a:blip r:embed="rId4"/>
          <a:stretch/>
        </p:blipFill>
        <p:spPr>
          <a:xfrm>
            <a:off x="7010280" y="304920"/>
            <a:ext cx="1552680" cy="1371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ontradiction.jpg"/>
          <p:cNvPicPr/>
          <p:nvPr/>
        </p:nvPicPr>
        <p:blipFill>
          <a:blip r:embed="rId5"/>
          <a:stretch/>
        </p:blipFill>
        <p:spPr>
          <a:xfrm>
            <a:off x="6553080" y="2743200"/>
            <a:ext cx="19814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uce, Du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lea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4" descr="aqueduct.jpg"/>
          <p:cNvPicPr/>
          <p:nvPr/>
        </p:nvPicPr>
        <p:blipFill>
          <a:blip r:embed="rId2"/>
          <a:stretch/>
        </p:blipFill>
        <p:spPr>
          <a:xfrm>
            <a:off x="3886200" y="2743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deduct.jpg"/>
          <p:cNvPicPr/>
          <p:nvPr/>
        </p:nvPicPr>
        <p:blipFill>
          <a:blip r:embed="rId3"/>
          <a:stretch/>
        </p:blipFill>
        <p:spPr>
          <a:xfrm>
            <a:off x="3276720" y="480060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introduce.jpg"/>
          <p:cNvPicPr/>
          <p:nvPr/>
        </p:nvPicPr>
        <p:blipFill>
          <a:blip r:embed="rId4"/>
          <a:stretch/>
        </p:blipFill>
        <p:spPr>
          <a:xfrm>
            <a:off x="6705720" y="152280"/>
            <a:ext cx="1971720" cy="144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conduct.jpg"/>
          <p:cNvPicPr/>
          <p:nvPr/>
        </p:nvPicPr>
        <p:blipFill>
          <a:blip r:embed="rId5"/>
          <a:stretch/>
        </p:blipFill>
        <p:spPr>
          <a:xfrm>
            <a:off x="7162920" y="40384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-, Ex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ru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j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vid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va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port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arry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pi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hu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may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ut or out of; from; form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erupt.jpg"/>
          <p:cNvPicPr/>
          <p:nvPr/>
        </p:nvPicPr>
        <p:blipFill>
          <a:blip r:embed="rId2"/>
          <a:stretch/>
        </p:blipFill>
        <p:spPr>
          <a:xfrm>
            <a:off x="6248520" y="464832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eject.jpg"/>
          <p:cNvPicPr/>
          <p:nvPr/>
        </p:nvPicPr>
        <p:blipFill>
          <a:blip r:embed="rId3"/>
          <a:stretch/>
        </p:blipFill>
        <p:spPr>
          <a:xfrm>
            <a:off x="3809880" y="42670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exit.jpg"/>
          <p:cNvPicPr/>
          <p:nvPr/>
        </p:nvPicPr>
        <p:blipFill>
          <a:blip r:embed="rId4"/>
          <a:stretch/>
        </p:blipFill>
        <p:spPr>
          <a:xfrm>
            <a:off x="7315200" y="2743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expire.jpg"/>
          <p:cNvPicPr/>
          <p:nvPr/>
        </p:nvPicPr>
        <p:blipFill>
          <a:blip r:embed="rId5"/>
          <a:stretch/>
        </p:blipFill>
        <p:spPr>
          <a:xfrm>
            <a:off x="6858000" y="152280"/>
            <a:ext cx="213372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et, -etta, -ette, -etto, -el, -ella, -le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t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u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ot meaning two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ro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eret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igaret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bretto/libretta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b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book or books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ilet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l/ nove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mbrella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umb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shadow or shad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k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lhouette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et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uffix meaning smal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a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group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ving or showing the quality o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4" descr="coronet.jpg"/>
          <p:cNvPicPr/>
          <p:nvPr/>
        </p:nvPicPr>
        <p:blipFill>
          <a:blip r:embed="rId2"/>
          <a:stretch/>
        </p:blipFill>
        <p:spPr>
          <a:xfrm>
            <a:off x="5029200" y="33526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duet.jpg"/>
          <p:cNvPicPr/>
          <p:nvPr/>
        </p:nvPicPr>
        <p:blipFill>
          <a:blip r:embed="rId3"/>
          <a:stretch/>
        </p:blipFill>
        <p:spPr>
          <a:xfrm>
            <a:off x="6172200" y="5105520"/>
            <a:ext cx="1181160" cy="1447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libretto.jpg"/>
          <p:cNvPicPr/>
          <p:nvPr/>
        </p:nvPicPr>
        <p:blipFill>
          <a:blip r:embed="rId4"/>
          <a:stretch/>
        </p:blipFill>
        <p:spPr>
          <a:xfrm>
            <a:off x="533520" y="152280"/>
            <a:ext cx="885600" cy="1314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operetta.jpg"/>
          <p:cNvPicPr/>
          <p:nvPr/>
        </p:nvPicPr>
        <p:blipFill>
          <a:blip r:embed="rId5"/>
          <a:stretch/>
        </p:blipFill>
        <p:spPr>
          <a:xfrm>
            <a:off x="7924680" y="44197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silhoutee.jpg"/>
          <p:cNvPicPr/>
          <p:nvPr/>
        </p:nvPicPr>
        <p:blipFill>
          <a:blip r:embed="rId6"/>
          <a:stretch/>
        </p:blipFill>
        <p:spPr>
          <a:xfrm>
            <a:off x="4572000" y="5181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umbrella.jpg"/>
          <p:cNvPicPr/>
          <p:nvPr/>
        </p:nvPicPr>
        <p:blipFill>
          <a:blip r:embed="rId7"/>
          <a:stretch/>
        </p:blipFill>
        <p:spPr>
          <a:xfrm>
            <a:off x="7162920" y="1219320"/>
            <a:ext cx="140976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stilettoo.jpg"/>
          <p:cNvPicPr/>
          <p:nvPr/>
        </p:nvPicPr>
        <p:blipFill>
          <a:blip r:embed="rId8"/>
          <a:stretch/>
        </p:blipFill>
        <p:spPr>
          <a:xfrm>
            <a:off x="7238880" y="2971800"/>
            <a:ext cx="1533600" cy="13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10T17:39:07Z</dcterms:modified>
  <cp:revision>28</cp:revision>
  <dc:subject/>
  <dc:title>Roots List #1</dc:title>
</cp:coreProperties>
</file>